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image7.png" ContentType="image/png"/>
  <Override PartName="/ppt/media/image6.wmf" ContentType="image/x-wmf"/>
  <Override PartName="/ppt/media/voltage.wav" ContentType="audio/x-wav"/>
  <Override PartName="/ppt/media/push.wav" ContentType="audio/x-wav"/>
  <Override PartName="/ppt/media/bomb.wav" ContentType="audio/x-wav"/>
  <Override PartName="/ppt/media/image1.wmf" ContentType="image/x-wmf"/>
  <Override PartName="/ppt/media/whoosh.wav" ContentType="audio/x-wav"/>
  <Override PartName="/ppt/media/image5.wmf" ContentType="image/x-wmf"/>
  <Override PartName="/ppt/media/breeze.wav" ContentType="audio/x-wav"/>
  <Override PartName="/ppt/media/image2.png" ContentType="image/png"/>
  <Override PartName="/ppt/media/suction.wav" ContentType="audio/x-wav"/>
  <Override PartName="/ppt/media/wind.wav" ContentType="audio/x-wav"/>
  <Override PartName="/ppt/media/chimes.wav" ContentType="audio/x-wav"/>
  <Override PartName="/ppt/media/image3.png" ContentType="image/png"/>
  <Override PartName="/ppt/media/click.wav" ContentType="audio/x-wav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F8ED-EDC8-4FB3-AFF2-F40FA5D86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EEF4-E04D-4F40-BF6C-C500B8758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38C4-3623-41D8-A0C9-DB97C40B7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77B2-C7F3-4696-91C7-8A2052351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39D5-F628-400C-A441-BC0A8E9DA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5553-6CED-4E87-8B38-D55ADF649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DB9D-C310-4AF3-9F51-4621CB045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7742-E267-4E5F-AEFC-C4BF9A49C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E7BB-E350-4F55-80B9-C44AEFEF4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33AC-62E6-42A4-BD91-3707EE306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1F30-95B1-4603-8F4A-F4FAB8725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A548-0987-47E3-87AB-ED2C5ACF4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D9FB-0BDA-4598-ABFA-FFB6965C9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FC10-1B8B-46F0-9ADE-00DF3DE62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5F2A-14E8-435E-BE65-7F6B54F63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C861-9741-4937-9BF4-AEFD8FE06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CF4-7C90-4427-946B-649F69CB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19A-5667-4E97-B9F3-EBC86E23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6AA-6B26-46CE-89DD-1A1F9A23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2CF-0F28-4BF9-AE31-A53B0935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1D2-14C6-4192-A04B-658563A8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8F9-B80E-4F98-95F3-801C5093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53A-5496-448B-9D9D-5F104DB5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86D-7CD4-4B75-AF94-91AC84FC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925-CFFF-459B-ABD4-115727D6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38A-18FA-40AB-8935-5477E4F1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FF5-EBD3-4AE7-A230-47C24FF0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0F0-9FF3-400B-B1AB-AA32BA6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B02A-76CD-4DCC-B95E-A7E2C029C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wm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breeze.wav"/><Relationship Id="rId7" Type="http://schemas.openxmlformats.org/officeDocument/2006/relationships/audio" Target="../media/suction.wav"/><Relationship Id="rId8" Type="http://schemas.openxmlformats.org/officeDocument/2006/relationships/audio" Target="../media/whoosh.wav"/><Relationship Id="rId9" Type="http://schemas.openxmlformats.org/officeDocument/2006/relationships/audio" Target="../media/push.wav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audio" Target="../media/breeze.wav"/><Relationship Id="rId11" Type="http://schemas.openxmlformats.org/officeDocument/2006/relationships/audio" Target="../media/whoosh.wav"/><Relationship Id="rId12" Type="http://schemas.openxmlformats.org/officeDocument/2006/relationships/audio" Target="../media/voltage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43080" y="920880"/>
            <a:ext cx="8458200" cy="37508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ive Little Pumpkins Sitting on a Fe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Sedgwick\AppData\Local\Microsoft\Windows\Temporary Internet Files\Content.IE5\KPIB5TT2\MC900054406[1].wm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21337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3886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71629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Sedgwick\AppData\Local\Microsoft\Windows\Temporary Internet Files\Content.IE5\KPIB5TT2\MC900436293[1].png"/>
          <p:cNvPicPr/>
          <p:nvPr/>
        </p:nvPicPr>
        <p:blipFill>
          <a:blip r:embed="rId6"/>
          <a:stretch/>
        </p:blipFill>
        <p:spPr>
          <a:xfrm>
            <a:off x="5562720" y="2743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ular Callout 7"/>
          <p:cNvSpPr/>
          <p:nvPr/>
        </p:nvSpPr>
        <p:spPr>
          <a:xfrm>
            <a:off x="6324480" y="533520"/>
            <a:ext cx="2210040" cy="1752480"/>
          </a:xfrm>
          <a:prstGeom prst="wedgeRoundRectCallout">
            <a:avLst>
              <a:gd name="adj1" fmla="val -37037"/>
              <a:gd name="adj2" fmla="val 92606"/>
              <a:gd name="adj3" fmla="val 16667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t’s Run and Run and R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723960" y="1536840"/>
            <a:ext cx="7696080" cy="253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And The Fifth One Sai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Sedgwick\AppData\Local\Microsoft\Windows\Temporary Internet Files\Content.IE5\KPIB5TT2\MC900054406[1].wm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21337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3886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71629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Users\Sedgwick\AppData\Local\Microsoft\Windows\Temporary Internet Files\Content.IE5\KPIB5TT2\MC900436293[1].png"/>
          <p:cNvPicPr/>
          <p:nvPr/>
        </p:nvPicPr>
        <p:blipFill>
          <a:blip r:embed="rId6"/>
          <a:stretch/>
        </p:blipFill>
        <p:spPr>
          <a:xfrm>
            <a:off x="5562720" y="2743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7"/>
          <p:cNvSpPr/>
          <p:nvPr/>
        </p:nvSpPr>
        <p:spPr>
          <a:xfrm>
            <a:off x="5257800" y="685800"/>
            <a:ext cx="2209680" cy="1752480"/>
          </a:xfrm>
          <a:prstGeom prst="wedgeRoundRectCallout">
            <a:avLst>
              <a:gd name="adj1" fmla="val 62023"/>
              <a:gd name="adj2" fmla="val 87069"/>
              <a:gd name="adj3" fmla="val 16667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’m ready for som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:\Users\Sedgwick\AppData\Local\Microsoft\Windows\Temporary Internet Files\Content.IE5\I6NJIKOR\MC900391424[1].wmf"/>
          <p:cNvPicPr/>
          <p:nvPr/>
        </p:nvPicPr>
        <p:blipFill>
          <a:blip r:embed="rId7"/>
          <a:stretch/>
        </p:blipFill>
        <p:spPr>
          <a:xfrm rot="419400">
            <a:off x="7421040" y="1369800"/>
            <a:ext cx="1335240" cy="181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edgwick\AppData\Local\Microsoft\Windows\Temporary Internet Files\Content.IE5\HDOHJA55\MC900021454[1].wmf"/>
          <p:cNvPicPr/>
          <p:nvPr/>
        </p:nvPicPr>
        <p:blipFill>
          <a:blip r:embed="rId1"/>
          <a:stretch/>
        </p:blipFill>
        <p:spPr>
          <a:xfrm>
            <a:off x="-66600" y="1017720"/>
            <a:ext cx="9217080" cy="470664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ular Callout 3"/>
          <p:cNvSpPr/>
          <p:nvPr/>
        </p:nvSpPr>
        <p:spPr>
          <a:xfrm>
            <a:off x="5029200" y="457200"/>
            <a:ext cx="2209680" cy="1752480"/>
          </a:xfrm>
          <a:prstGeom prst="wedgeRoundRectCallout">
            <a:avLst>
              <a:gd name="adj1" fmla="val -89703"/>
              <a:gd name="adj2" fmla="val 125013"/>
              <a:gd name="adj3" fmla="val 16667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oooo went the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 thruBlk="true"/>
    <p:sndAc>
      <p:stSnd>
        <p:snd r:embed="rId2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C:\Users\Sedgwick\AppData\Local\Microsoft\Windows\Temporary Internet Files\Content.IE5\KPIB5TT2\MC900436293[1].png"/>
          <p:cNvPicPr/>
          <p:nvPr/>
        </p:nvPicPr>
        <p:blipFill>
          <a:blip r:embed="rId1"/>
          <a:stretch/>
        </p:blipFill>
        <p:spPr>
          <a:xfrm>
            <a:off x="45720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213372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388620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716292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5562720" y="342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419040" y="573120"/>
            <a:ext cx="8305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OUT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ent the ligh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 thruBlk="true"/>
    <p:sndAc>
      <p:stSnd>
        <p:snd r:embed="rId6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C:\Users\Sedgwick\AppData\Local\Microsoft\Windows\Temporary Internet Files\Content.IE5\KPIB5TT2\MC900436293[1].png"/>
          <p:cNvPicPr/>
          <p:nvPr/>
        </p:nvPicPr>
        <p:blipFill>
          <a:blip r:embed="rId1"/>
          <a:stretch/>
        </p:blipFill>
        <p:spPr>
          <a:xfrm>
            <a:off x="45720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213372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388620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716292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5562720" y="342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419040" y="5335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nd the Five Little Pumpkins rolled out of s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xit" presetID="15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Sedgwick\AppData\Local\Microsoft\Windows\Temporary Internet Files\Content.IE5\KPIB5TT2\MC900054406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21337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3886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71629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Users\Sedgwick\AppData\Local\Microsoft\Windows\Temporary Internet Files\Content.IE5\KPIB5TT2\MC900436293[1].png"/>
          <p:cNvPicPr/>
          <p:nvPr/>
        </p:nvPicPr>
        <p:blipFill>
          <a:blip r:embed="rId6"/>
          <a:stretch/>
        </p:blipFill>
        <p:spPr>
          <a:xfrm>
            <a:off x="5562720" y="27432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333440" y="2151000"/>
            <a:ext cx="6477120" cy="253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he First One Sai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Sedgwick\AppData\Local\Microsoft\Windows\Temporary Internet Files\Content.IE5\KPIB5TT2\MC900054406[1].wm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21337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3886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71629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Sedgwick\AppData\Local\Microsoft\Windows\Temporary Internet Files\Content.IE5\KPIB5TT2\MC900436293[1].png"/>
          <p:cNvPicPr/>
          <p:nvPr/>
        </p:nvPicPr>
        <p:blipFill>
          <a:blip r:embed="rId6"/>
          <a:stretch/>
        </p:blipFill>
        <p:spPr>
          <a:xfrm>
            <a:off x="5562720" y="2743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Rounded Rectangular Callout 7"/>
          <p:cNvSpPr/>
          <p:nvPr/>
        </p:nvSpPr>
        <p:spPr>
          <a:xfrm>
            <a:off x="1447920" y="990720"/>
            <a:ext cx="2209680" cy="1752480"/>
          </a:xfrm>
          <a:prstGeom prst="wedgeRoundRectCallout">
            <a:avLst>
              <a:gd name="adj1" fmla="val -40791"/>
              <a:gd name="adj2" fmla="val 66796"/>
              <a:gd name="adj3" fmla="val 16667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h My It’s Getting L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Sedgwick\AppData\Local\Microsoft\Windows\Temporary Internet Files\Content.IE5\RCY9VETV\MC900153622[1].wmf"/>
          <p:cNvPicPr/>
          <p:nvPr/>
        </p:nvPicPr>
        <p:blipFill>
          <a:blip r:embed="rId7"/>
          <a:stretch/>
        </p:blipFill>
        <p:spPr>
          <a:xfrm rot="20889600">
            <a:off x="2962440" y="2041200"/>
            <a:ext cx="669600" cy="727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762120" y="2151000"/>
            <a:ext cx="7619760" cy="253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he Second One Sai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Sedgwick\AppData\Local\Microsoft\Windows\Temporary Internet Files\Content.IE5\KPIB5TT2\MC900054406[1].wm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21337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3886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71629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Sedgwick\AppData\Local\Microsoft\Windows\Temporary Internet Files\Content.IE5\KPIB5TT2\MC900436293[1].png"/>
          <p:cNvPicPr/>
          <p:nvPr/>
        </p:nvPicPr>
        <p:blipFill>
          <a:blip r:embed="rId6"/>
          <a:stretch/>
        </p:blipFill>
        <p:spPr>
          <a:xfrm>
            <a:off x="5562720" y="2743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Rounded Rectangular Callout 7"/>
          <p:cNvSpPr/>
          <p:nvPr/>
        </p:nvSpPr>
        <p:spPr>
          <a:xfrm>
            <a:off x="685800" y="838080"/>
            <a:ext cx="2209680" cy="1752840"/>
          </a:xfrm>
          <a:prstGeom prst="wedgeRoundRectCallout">
            <a:avLst>
              <a:gd name="adj1" fmla="val 41481"/>
              <a:gd name="adj2" fmla="val 73546"/>
              <a:gd name="adj3" fmla="val 16667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re are witches in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Sedgwick\AppData\Local\Microsoft\Windows\Temporary Internet Files\Content.IE5\I6NJIKOR\MC900323089[1].wmf"/>
          <p:cNvPicPr/>
          <p:nvPr/>
        </p:nvPicPr>
        <p:blipFill>
          <a:blip r:embed="rId7"/>
          <a:stretch/>
        </p:blipFill>
        <p:spPr>
          <a:xfrm>
            <a:off x="6400800" y="304920"/>
            <a:ext cx="927000" cy="65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Sedgwick\AppData\Local\Microsoft\Windows\Temporary Internet Files\Content.IE5\I6NJIKOR\MC900323089[1].wmf"/>
          <p:cNvPicPr/>
          <p:nvPr/>
        </p:nvPicPr>
        <p:blipFill>
          <a:blip r:embed="rId8"/>
          <a:stretch/>
        </p:blipFill>
        <p:spPr>
          <a:xfrm>
            <a:off x="7315200" y="1905120"/>
            <a:ext cx="1058760" cy="74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Sedgwick\AppData\Local\Microsoft\Windows\Temporary Internet Files\Content.IE5\I6NJIKOR\MC900323089[1].wmf"/>
          <p:cNvPicPr/>
          <p:nvPr/>
        </p:nvPicPr>
        <p:blipFill>
          <a:blip r:embed="rId9"/>
          <a:stretch/>
        </p:blipFill>
        <p:spPr>
          <a:xfrm>
            <a:off x="4038480" y="838080"/>
            <a:ext cx="927360" cy="652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257480" y="2151000"/>
            <a:ext cx="6629400" cy="253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he Third One Sai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Sedgwick\AppData\Local\Microsoft\Windows\Temporary Internet Files\Content.IE5\KPIB5TT2\MC900054406[1].wm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21337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3886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71629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Users\Sedgwick\AppData\Local\Microsoft\Windows\Temporary Internet Files\Content.IE5\KPIB5TT2\MC900436293[1].png"/>
          <p:cNvPicPr/>
          <p:nvPr/>
        </p:nvPicPr>
        <p:blipFill>
          <a:blip r:embed="rId6"/>
          <a:stretch/>
        </p:blipFill>
        <p:spPr>
          <a:xfrm>
            <a:off x="5562720" y="2743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ular Callout 7"/>
          <p:cNvSpPr/>
          <p:nvPr/>
        </p:nvSpPr>
        <p:spPr>
          <a:xfrm>
            <a:off x="2209680" y="838080"/>
            <a:ext cx="2210040" cy="1752840"/>
          </a:xfrm>
          <a:prstGeom prst="wedgeRoundRectCallout">
            <a:avLst>
              <a:gd name="adj1" fmla="val 46347"/>
              <a:gd name="adj2" fmla="val 76004"/>
              <a:gd name="adj3" fmla="val 16667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ut We Don’t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723960" y="2151000"/>
            <a:ext cx="7696080" cy="253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he Fourth One Sai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6:06:51Z</dcterms:created>
  <dc:creator>Sedgwick</dc:creator>
  <dc:description/>
  <dc:language>en-US</dc:language>
  <cp:lastModifiedBy>Sedgwick</cp:lastModifiedBy>
  <dcterms:modified xsi:type="dcterms:W3CDTF">2010-10-26T16:34:35Z</dcterms:modified>
  <cp:revision>9</cp:revision>
  <dc:subject/>
  <dc:title>Slide 1</dc:title>
</cp:coreProperties>
</file>